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4A8-8B72-4D7F-9E45-2CF1F7C6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65D-17AE-41F1-86EC-DD588AC8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F37-5320-4E89-9DB2-FD882251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BA5-B7D7-4A8C-8031-FF154E75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B224-A447-41AF-8E2E-6D2306EB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2F58-D21D-43A8-9FDE-353BB7AC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418B-1902-4074-8D09-3A4D14B5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49DA-3050-4A15-A441-BEE1755B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1409-9E6E-4F2D-996A-6C5A9729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A2BC-E171-4B79-969D-0534BE80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9C95-79C2-4D80-A495-585594C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E43-D9E4-4CB4-A8FB-29A47DDB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6BFE-55D8-4F91-BD7C-F669D1A6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99DE-DF18-40D2-A240-607ED657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A9E1-9FFE-404B-9646-97D12C88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058B-7957-48BC-903D-119CC601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5954-53A2-4DCB-8034-D1D0495E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F9AA2-571B-47E2-BA1C-BE834BEC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BD84-B7E8-42AF-8420-17E8ED96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A5A89-90B5-48EB-BFC9-81A7FB9E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FC183-AF5A-4932-B810-1A4D29D5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896D0-D82E-4DAC-85BA-926C4CC4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B42-EDF1-42E6-83F3-DE1D63D1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8224-1C9A-4944-9728-16010AFA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BA8BC-CFAB-4BC8-8379-00F54AF2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EDB8-EAB5-4EA6-A54F-B2E46D4D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33FC1-506F-45D6-9BFF-D2381C0B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8309-2EA4-43D6-9A39-8D5C62E9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CFE29-E12D-416C-BB24-CB29985F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3F7E9-09D0-40F5-A211-6D377EF7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7B861-ED3E-42AB-B117-BAB34160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F1AC8-091F-43DB-88B4-48C3A591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7065A-9737-43D2-A340-629FC7B2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BC4-8396-4B16-BCC3-E0C8C922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F1FBA-16C3-4F67-87E5-6C03126D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45A11-219C-4568-B958-4536DF8B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4D8E-2509-4E6B-8C5E-713C65EA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22BB6-A2AE-43BD-9005-D836CFC2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A8E96-F2AE-4525-8FFC-61EB7D27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7C328-4209-4538-8C07-46F3F4C0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1054-8BB6-4450-B272-3A37DB91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96A6-2666-4C75-91FD-0C09EE22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6ADDC-B97E-4266-862D-EB2115FF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48E-1016-483E-8E70-171BB1C6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7C7-0D16-461C-AE53-3244381F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FF7-7549-43D0-B023-A6703174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50C-A1D4-4CBB-BA3A-702283F1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E63-CA87-4878-BA2D-208631F9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8197-28E7-480C-94AC-80252EE90B5E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A010-D9CD-4DB9-957D-7C7A5F64DCDB}" type="slidenum"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BDCC-74C5-404F-91EA-25CB55831153}" type="slidenum"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FFFB-06D6-4176-9417-2385F44A2244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46144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Objectif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To greet someone and say good by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To ask how someone i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To introduce someon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’Autres mots de vocabulai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as terrible/Pas génial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gre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n/Un prof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MOI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n copain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Male Frien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ne copine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Female Frien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Ways to Greet Someo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Salut! </a:t>
            </a:r>
            <a:r>
              <a:rPr b="1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 Hi (inform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Bonjour!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- Morning until 5 or 6 p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Bonsoir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-After 5 or 6 pm!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https://encrypted-tbn0.google.com/images?q=tbn:ANd9GcQ5MuxDVq0QGtHgxRz5uQAJ9rqjqeQrI7W46F7smejqmGuwwZ7A"/>
          <p:cNvPicPr/>
          <p:nvPr/>
        </p:nvPicPr>
        <p:blipFill>
          <a:blip r:embed="rId1"/>
          <a:stretch/>
        </p:blipFill>
        <p:spPr>
          <a:xfrm>
            <a:off x="6400800" y="4876920"/>
            <a:ext cx="2505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Mr./Mrs./Mi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228600" y="182880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onstantia"/>
              </a:rPr>
              <a:t>Monsieu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3505320" y="594360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onstantia"/>
              </a:rPr>
              <a:t>Mada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6248520" y="1600200"/>
            <a:ext cx="2666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onstantia"/>
              </a:rPr>
              <a:t>Mademoisel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https://encrypted-tbn3.google.com/images?q=tbn:ANd9GcQTrqMZ3IMHhg8FnYmWvXWihb4FDWX66uIDgtIwCcI2kr8_tuN20w"/>
          <p:cNvPicPr/>
          <p:nvPr/>
        </p:nvPicPr>
        <p:blipFill>
          <a:blip r:embed="rId1"/>
          <a:stretch/>
        </p:blipFill>
        <p:spPr>
          <a:xfrm>
            <a:off x="228600" y="2438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ttps://encrypted-tbn1.google.com/images?q=tbn:ANd9GcSoqLaCUlaG4S-vBWgpLIHb1PQI-dPs6TAWV_f1HUlGtrh1ULuF-A"/>
          <p:cNvPicPr/>
          <p:nvPr/>
        </p:nvPicPr>
        <p:blipFill>
          <a:blip r:embed="rId2"/>
          <a:stretch/>
        </p:blipFill>
        <p:spPr>
          <a:xfrm>
            <a:off x="3352680" y="3048120"/>
            <a:ext cx="1695600" cy="2695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https://encrypted-tbn3.google.com/images?q=tbn:ANd9GcQxYNNKdBmcDRmHkbuGziSyY0nnKMXgU4KSZVTasD5JkRWBQTVLWQ"/>
          <p:cNvPicPr/>
          <p:nvPr/>
        </p:nvPicPr>
        <p:blipFill>
          <a:blip r:embed="rId3"/>
          <a:stretch/>
        </p:blipFill>
        <p:spPr>
          <a:xfrm>
            <a:off x="6095880" y="251460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Note Culturell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arlier this year, the French government decided to officially do away with the term</a:t>
            </a:r>
            <a:r>
              <a:rPr b="1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 Mademoiselle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on government document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What do you think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ould you see either Miss or Ms. be removed from official English documents in the U.S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Ways to Say Good By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À bientôt!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See you soon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À demain!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See you tomorrow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À plus tard!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Later! OR See you late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À tout à l’heure! 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See you late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Tchao!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– Ciao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u revoir!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d by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SMS (text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À plus tard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is shorted to 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à plus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A+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https://encrypted-tbn1.google.com/images?q=tbn:ANd9GcRMZLD4gO3q-1I2iRC5Vw_lo0uN6ezhBtBntEAOmT-o-KSdv0G0qQ"/>
          <p:cNvPicPr/>
          <p:nvPr/>
        </p:nvPicPr>
        <p:blipFill>
          <a:blip r:embed="rId1"/>
          <a:stretch/>
        </p:blipFill>
        <p:spPr>
          <a:xfrm>
            <a:off x="6629400" y="2971800"/>
            <a:ext cx="21718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 Note on Formal/Inform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Inform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you are speaking to people who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re older than you that you don’t know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you will want to use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VOU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VOU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speaking to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re than one pers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regardless of ag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ind of like Y’all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you are speaking to a person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your own age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young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sed between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family members, even those older than you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o Ask Someone’s Name &amp; Responding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ent tu t’appel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at’s your nam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ent vous vous appellez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at’s your nam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ent il/elle s’appell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at’s his/her nam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e m’appelle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l/elle s’appelle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king How Someone 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Ça va?/Comment ça v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’s it going? (Inform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ent allez-vous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are you? (Form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t toi?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you? (Inform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t vou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you? (form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6019920" y="17524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ui, ça 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pond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https://encrypted-tbn1.google.com/images?q=tbn:ANd9GcQj2z7gx9eQlZDIR33VzIe0cI4TTkVh5U05teHZjX0DwhHCr0AO"/>
          <p:cNvPicPr/>
          <p:nvPr/>
        </p:nvPicPr>
        <p:blipFill>
          <a:blip r:embed="rId1"/>
          <a:stretch/>
        </p:blipFill>
        <p:spPr>
          <a:xfrm>
            <a:off x="380880" y="2438280"/>
            <a:ext cx="2305080" cy="1990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s://encrypted-tbn2.google.com/images?q=tbn:ANd9GcQ3gGBwGlzxYRkj3byBLXkd-4ODB5E_IUXtQaEpY5kzrOYSM34MZQ"/>
          <p:cNvPicPr/>
          <p:nvPr/>
        </p:nvPicPr>
        <p:blipFill>
          <a:blip r:embed="rId2"/>
          <a:stretch/>
        </p:blipFill>
        <p:spPr>
          <a:xfrm>
            <a:off x="3048120" y="5029200"/>
            <a:ext cx="2771640" cy="1647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https://encrypted-tbn0.google.com/images?q=tbn:ANd9GcSYHvCDiNxA5zqN5lgRJCiuK49rwl0JP7wG4IZ9_3HvYcHZKmK1-g"/>
          <p:cNvPicPr/>
          <p:nvPr/>
        </p:nvPicPr>
        <p:blipFill>
          <a:blip r:embed="rId3"/>
          <a:stretch/>
        </p:blipFill>
        <p:spPr>
          <a:xfrm>
            <a:off x="6705720" y="21337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6"/>
          <p:cNvSpPr/>
          <p:nvPr/>
        </p:nvSpPr>
        <p:spPr>
          <a:xfrm>
            <a:off x="304920" y="1600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ien/Très bien, merc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3276720" y="36576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s mal/Comme ci, comme ça/Plus ou m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6208560" y="144792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on, pas très b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Ça va mal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15:08:53Z</dcterms:created>
  <dc:creator>Robbie</dc:creator>
  <dc:description/>
  <dc:language>en-US</dc:language>
  <cp:lastModifiedBy>Robert Stevens</cp:lastModifiedBy>
  <dcterms:modified xsi:type="dcterms:W3CDTF">2012-08-09T16:46:49Z</dcterms:modified>
  <cp:revision>3</cp:revision>
  <dc:subject/>
  <dc:title>Vocabulaire 1-1</dc:title>
</cp:coreProperties>
</file>